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3A2C-F9C1-49D2-9B55-ECAF02618848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AF9C-2D50-434E-8AD8-05FD99553AE6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609B-CF90-4C09-A865-78F59E9E9569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05AB-18D2-4C16-9E02-ED97ABDB6457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B6A5-40EF-45E3-9851-FB22DC794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568B-463F-4E50-9CEC-31B012B1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A95F-7C2A-469C-A8CF-B6896DFC8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7B03-30AB-4FE7-B721-1C199B15F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11E5-FC7D-4683-8A79-A4CC652C2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9405-B350-4C25-9762-2D523153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5A7B-223E-44C4-BBB2-14A29F23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557F-59F9-4CEE-BF61-CCA658F7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B25A-6F49-433C-A777-6E5E0A25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742F-C80F-45B7-A419-3ACD7D35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8944-3D0E-46FE-95B2-EA8E9F8D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281D-C155-4470-8B75-AACC4842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A560-5FC6-481E-A68E-BA7CF633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DDB4-5628-4AC9-8C8F-DF6269B1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360C-9FAA-400B-AF07-1A1229857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37EC-0667-4A71-B53F-55A2FE4A8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C9AC4-535E-4AB3-AD4D-0A3DA150B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5D75A-070F-4651-BAFC-0C64E9C9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89A61-0E14-43F1-AADB-23007D83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F7231-7658-4AE5-9E1A-AA008467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3AD30-CCE6-4128-A411-96E6F35F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48132-51CC-44B8-9E57-3C4C55F0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F4C15-495B-4CC2-9F3E-274423CB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B6B1E-7560-4A90-95AA-EEDB24CA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94359-FEDA-49E2-B4F1-EC662B1D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67AB0-BF6F-41A4-9787-0F9B92A4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9E6DC-9EED-447F-A09D-F83ACE965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7A385-803D-4E48-8E29-1F480B181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60B2-663C-4F88-BDAB-73DC4EB6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8A9C-58AE-4383-8F27-F09481FF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6616-E8D1-4538-A6C1-0E7CB7E3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D51C-BE33-41BF-8CD6-9E8670EF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B58A-86FA-4F0A-8D02-A957A4CF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6B32-6CE5-456C-8347-59A5715C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CB9F-B129-465A-8020-BF70A419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5BB5-E943-4760-8305-EDD7682D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648B-C314-402D-A0A7-515C2B1662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BB53-1BDE-484D-A9BC-4E3690F72CDC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1BE9-6080-4B57-A3C9-9C1E5EF6ACCC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07880" y="121284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Ureditev kohezijske politike v Republiki Sloveniji v programskem obdobju 2014–2020 za cilj "naložbe za rast in delovna mesta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260280" y="20178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če stvari ne tečejo (korekcije, neustrezna dinamika, nedoseganje ciljev…) – brez soglasja posredniškega orga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v okviru evidenčnega projekta v primeru nižje vrednosti od predvide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ržanje izvajanja (sum goljufije, neizvajanje korekcij, terjatev) do 3 mesec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razporejanje in zadržanje izvaj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15440" y="204804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 še zahtevek za izplačilo iz proračuna (ZZI), ni več zahtevka za povračilo (ZZ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i over-commitment-ov, pač pa v okviru „integrale“ več projektov, ki v celoti sledijo EU pravilom in lahko takoj zamenjajo problematične (naknadna dodelitev kohezijskih sredste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bo določil standardne člene pogodbe o sofinanciranju za posamezne vrste operacij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01680" y="236016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verjanje „prenesenih nalog“ s strani 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bveznost izvajanja ukrepov (finančnih popravkov) v skladu s končnimi priporočili in ugotovitvami OU in nadzornih organov (SI in EU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01320" y="22935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ov informacijski sistem (e-MA), z novimi možnostmi in vzvodi za planiranje in upravljanje (npr. tudi za sledenje predvideni dinamiki preko 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elika povezanost z MFER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hodna rešitev v letu 2015 (ISARR-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pogoj za uspešno upravljan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90520" y="20728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kon o izvrševanju proračuna Republike Slovenije (kasneje tudi Zakon o javnih financa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redba o koriščenju sredstev evropske kohezijske politike v Republiki Sloveniji v programskem obdobju 2014–2020 za cilj "naložbe za rast in delovna mesta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edbeni ak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rije sklopi nove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255600" y="13028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za pripravo Izvedbenega načrta in Predloga k izvedbenemu načrt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finančno upravljanje  in izvajanja evropske kohezijske politike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o izpolnjevanju pogojev za imenovanje posredniškega organ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o upravičenih stroških za sredstva evropske kohezijske politike za programsko obdobj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načrtovanje, spremljanje, poročanje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in vrednotenje </a:t>
            </a: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izvajanja kohezijske politike v programskem obdobju 2014 – 20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preverjanj po 125. členu Uredbe (EU) št. 1303/2013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tehnične podpore evropske kohezijske politik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informiranje in obveščanje javnosti o kohezijskem in strukturnih skladih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spremljanje izvajanja OP z informacijskim sistemom O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o OU za poročanje in spremljanje nepravilnost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290520" y="214488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erila za izbor operacij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Odbora za spremljanje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pis sistema upravljanja in nadzora – OS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ročnik OU za izvajanje EKP 2014-2020 (konec maj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rug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22200" y="21268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nje  leto programskega obdobja 2007-201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to vzpostavitve sistema za programsko obdobje 2014-2020 (2023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opolnitev sistema v drugi polovici le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ebnost proračuna 2015 – vsa sredstva „nove“ kohezije na proračunskih postavkah SV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Leto 2015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301680" y="1739520"/>
            <a:ext cx="7408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i krog usklajevanja zaključ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a Izvedbenega načrta , ki predstavlja operacionalizacijo OP je v teku, predvidoma bo sprejet v april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a seja Odbora za spremljan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naslednjem tednu predlog nove ureditve (ZIPRS in uredba)  in pričetek drugega kroga usklaje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IPRS in uredba aprila na vlad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Akreditacija posredniških organov (april-junij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ation procedure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“, ki ga bo izvedel UNP (junij – oktober), kot pogoj za črpanje sredstev iz Brusl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Kako napre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Hval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269640" y="18046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mora dejansko upravljati s kohezijskimi sredstv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ožnost prelivanja denarja med resorji, konkurenca med program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Kakovost proje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100% črpanje sredst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enostavitve, zmanjšanje upravnih br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prava sedanjih težav (npr. težave na relaciji ISARR – MFERA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196560" y="19918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oštevati spremembe, ki jih je prinesla nova EU uredba in kar smo že vgradili predvsem v PS (občasno proble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uredbi določiti samo nujne specifike slovenske ureditve, drugače neposredna uporaba EU ured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e ponavljati določb iz drugih a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čim večji meri poenotiti izvajanje proračuna za integralna in kohezijska sredst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„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Use it or lose it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Content Placeholder 2" descr=""/>
          <p:cNvPicPr/>
          <p:nvPr/>
        </p:nvPicPr>
        <p:blipFill>
          <a:blip r:embed="rId1"/>
          <a:stretch/>
        </p:blipFill>
        <p:spPr>
          <a:xfrm>
            <a:off x="1682640" y="2676600"/>
            <a:ext cx="746136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Cil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Straight Connector 4"/>
          <p:cNvSpPr/>
          <p:nvPr/>
        </p:nvSpPr>
        <p:spPr>
          <a:xfrm>
            <a:off x="971640" y="2060640"/>
            <a:ext cx="0" cy="381636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"/>
          <p:cNvSpPr/>
          <p:nvPr/>
        </p:nvSpPr>
        <p:spPr>
          <a:xfrm>
            <a:off x="971640" y="5877000"/>
            <a:ext cx="7200720" cy="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3564360" y="597096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programsko obdob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11"/>
          <p:cNvSpPr/>
          <p:nvPr/>
        </p:nvSpPr>
        <p:spPr>
          <a:xfrm>
            <a:off x="1741320" y="1647720"/>
            <a:ext cx="6296040" cy="4219560"/>
          </a:xfrm>
          <a:custGeom>
            <a:avLst/>
            <a:gdLst/>
            <a:ahLst/>
            <a:rect l="l" t="t" r="r" b="b"/>
            <a:pathLst>
              <a:path w="6296047" h="4218920">
                <a:moveTo>
                  <a:pt x="0" y="4218920"/>
                </a:moveTo>
                <a:cubicBezTo>
                  <a:pt x="229507" y="4031141"/>
                  <a:pt x="459015" y="3843363"/>
                  <a:pt x="849086" y="3685520"/>
                </a:cubicBezTo>
                <a:cubicBezTo>
                  <a:pt x="1239158" y="3527677"/>
                  <a:pt x="1868715" y="3380720"/>
                  <a:pt x="2340429" y="3271863"/>
                </a:cubicBezTo>
                <a:cubicBezTo>
                  <a:pt x="2812143" y="3163006"/>
                  <a:pt x="3287486" y="3157563"/>
                  <a:pt x="3679372" y="3032377"/>
                </a:cubicBezTo>
                <a:cubicBezTo>
                  <a:pt x="4071258" y="2907191"/>
                  <a:pt x="4287157" y="2974320"/>
                  <a:pt x="4691743" y="2520749"/>
                </a:cubicBezTo>
                <a:cubicBezTo>
                  <a:pt x="5096329" y="2067178"/>
                  <a:pt x="5842000" y="728235"/>
                  <a:pt x="6106886" y="310949"/>
                </a:cubicBezTo>
                <a:cubicBezTo>
                  <a:pt x="6371772" y="-106337"/>
                  <a:pt x="6281057" y="17034"/>
                  <a:pt x="6281057" y="17034"/>
                </a:cubicBezTo>
                <a:lnTo>
                  <a:pt x="6281057" y="17034"/>
                </a:ln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13"/>
          <p:cNvSpPr/>
          <p:nvPr/>
        </p:nvSpPr>
        <p:spPr>
          <a:xfrm>
            <a:off x="1709640" y="3298680"/>
            <a:ext cx="6443640" cy="2557440"/>
          </a:xfrm>
          <a:custGeom>
            <a:avLst/>
            <a:gdLst/>
            <a:ahLst/>
            <a:rect l="l" t="t" r="r" b="b"/>
            <a:pathLst>
              <a:path w="6444801" h="2557369">
                <a:moveTo>
                  <a:pt x="0" y="2557369"/>
                </a:moveTo>
                <a:cubicBezTo>
                  <a:pt x="93436" y="2352355"/>
                  <a:pt x="186872" y="2147341"/>
                  <a:pt x="391886" y="1860684"/>
                </a:cubicBezTo>
                <a:cubicBezTo>
                  <a:pt x="596900" y="1574027"/>
                  <a:pt x="923472" y="1127712"/>
                  <a:pt x="1230086" y="837426"/>
                </a:cubicBezTo>
                <a:cubicBezTo>
                  <a:pt x="1536700" y="547140"/>
                  <a:pt x="1895929" y="256855"/>
                  <a:pt x="2231572" y="118969"/>
                </a:cubicBezTo>
                <a:cubicBezTo>
                  <a:pt x="2567215" y="-18917"/>
                  <a:pt x="2953657" y="24626"/>
                  <a:pt x="3243943" y="10112"/>
                </a:cubicBezTo>
                <a:cubicBezTo>
                  <a:pt x="3534229" y="-4402"/>
                  <a:pt x="3735615" y="-8030"/>
                  <a:pt x="3973286" y="31884"/>
                </a:cubicBezTo>
                <a:cubicBezTo>
                  <a:pt x="4210957" y="71798"/>
                  <a:pt x="4443186" y="55469"/>
                  <a:pt x="4669972" y="249598"/>
                </a:cubicBezTo>
                <a:cubicBezTo>
                  <a:pt x="4896758" y="443726"/>
                  <a:pt x="5156200" y="873712"/>
                  <a:pt x="5334000" y="1196655"/>
                </a:cubicBezTo>
                <a:cubicBezTo>
                  <a:pt x="5511800" y="1519598"/>
                  <a:pt x="5560786" y="1971355"/>
                  <a:pt x="5736772" y="2187255"/>
                </a:cubicBezTo>
                <a:cubicBezTo>
                  <a:pt x="5912758" y="2403155"/>
                  <a:pt x="6277428" y="2439441"/>
                  <a:pt x="6389914" y="2492055"/>
                </a:cubicBezTo>
                <a:cubicBezTo>
                  <a:pt x="6502400" y="2544669"/>
                  <a:pt x="6406243" y="2497498"/>
                  <a:pt x="6411686" y="2502941"/>
                </a:cubicBezTo>
                <a:cubicBezTo>
                  <a:pt x="6417129" y="2508384"/>
                  <a:pt x="6419850" y="2516548"/>
                  <a:pt x="6422572" y="2524712"/>
                </a:cubicBezTo>
              </a:path>
            </a:pathLst>
          </a:cu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"/>
          <p:cNvSpPr/>
          <p:nvPr/>
        </p:nvSpPr>
        <p:spPr>
          <a:xfrm>
            <a:off x="6688080" y="17668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07-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9"/>
          <p:cNvSpPr/>
          <p:nvPr/>
        </p:nvSpPr>
        <p:spPr>
          <a:xfrm>
            <a:off x="2556000" y="3298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186840" y="184428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upravljanja (SVR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za potrjevanje (MF-Sektor za upravljanje s sredstvi EU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vizijski organ (UN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redniški organi (ministrstva – skoraj vs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ajalski organi (pravna oseba javnega ali zasebnega prav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ravičenec (izvajalec, organ ali podjetje, javno ali zasebno) – pri FI organ, ki izvaja F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207720" y="1825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bor za spremljanje (nadzorni odb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Strokovne skup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i 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080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En načrt izvajanja, ki je sprejet pred proračunsko razprav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snova za razporeditev sredstev na finančne načr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i ga OU na osnovi predlogov posredniških organ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soja predlogov s strani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va dela načrt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ndikativni prikaz operacij za celotno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drobnejši prikaz za dve leti, kjer je potrebno pa tudi za daljše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31920" y="2019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dno noveliranje dokum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2015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arec-apri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julij-septem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dhodna seznanitev vseh deležnik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22860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esoja vlog večjih vrednosti tudi s strani neodvisnih strokovnjakov (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oziroma delovne skupine vlade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odelitev sredstev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drej</cp:lastModifiedBy>
  <dcterms:modified xsi:type="dcterms:W3CDTF">2015-03-24T20:17:56Z</dcterms:modified>
  <cp:revision>21</cp:revision>
  <dc:subject/>
  <dc:title>PowerPoint Presentation</dc:title>
</cp:coreProperties>
</file>